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B5E-CD99-4188-ABF9-9772D8E5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D53-39BA-4F12-B3AF-1C008A73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698-D7A1-451A-8AAC-8B261694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3CF-B01B-4ABC-94C6-A901B43C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153-A573-43BF-9412-F0FE6666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DB2-5FB4-442B-9320-9D8B259F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D29-9935-4A7E-A30F-0E014D7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631-7100-4F61-8678-00A35F5F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4E2-A0B7-419D-A5F3-C5EDC7BA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880-1617-49B5-98A5-686600F8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8AD-42B5-413B-9098-CDA58E68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8D6-1301-4941-93FF-B2C05296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40E2-29DF-4E53-8FFB-F73EDE7940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3 – cross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5 – circumcision; manna s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6 –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7-8 – 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9 – Gibe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-southern-northern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13:7 divide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1:43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lan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4:29 Joshua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– Jud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judges – Rebellion, Repression, Repentance, Resc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Gideon and 300 men; Jephthah and daughter; Samson, Eli and wicked sons; 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8 – we want a king; Saul an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3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 – Unit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– 1040–1000 B.C.; 1 Sam 15 – Amalek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– 1000-960 B.C.; preparation for the temple; 2 Sam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– 960-920(921) B.C.; temple began in 956 B.C.; wisdom, wives,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– Divid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1-721 B.C. – 2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– north – Jereboam – 10 tribes; calves at Dan and Bet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; fell to Assyria in 721 B.C.—gone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– south – Rehoboam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David  (2 Sam 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king when Israel f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 – 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21-586 B.C. – 135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sseh evil king for 55 years; ultimate downfall of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– 31 good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fell to Babylon (Nebuchadnezzar) in 58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 –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-536 B.C. – 70 years (over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/605 B.C. first captivities taken; Daniel (image of Dan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97 B.C. second captivities taken; Ezek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86 B.C. Jerusalem fell; 2 Kings 25:21; Judah carried away ca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6 B.C. – first return; decree of Cyrus king of Persia (Ezra 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9 B.C. – 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B.C. – Ezra – restored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5-443 B.C. – Nehemiah  (Neh 2:1, 13:6) – rebuilt walls  (52 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ubbabel – built temple (not like Solomon’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 ends 443/43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of image of Daniel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1 B.C. – Persia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4-323 B.C. –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 B.C. – Rome took Pal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 B.C. – Herod made king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B.C. – Herod’s temple beg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 – silence br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100 years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o-Persians still in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 (Gree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abeean Rev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Roman Emp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 – Life of Chr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See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 – Early Chur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2 – first gospel sermon; church established  (spiritual 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8 – Samaritans hear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0 – Cornelius, first Gentile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3ff - Paul and Barnabas; gospel to Asia Minor, Greece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 – Letters to the Christ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James, Jude,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– Before the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–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2 – Adam and Eve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3 – first 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(Gen 3:15 – first promise of S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4 – Cain and 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5 – generations of Ad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–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6 – wickedness; ark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7 – flood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8 – waters re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9 – meat for food, capital punishment, rainbow promise, Noah’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– Scattering of the Peop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1 – Plain of Shinar; Tower of Babel; confus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– Patriarch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ru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, Isaac, Jacob (Isra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12:1-3,7  promises to Abraham—Nation, Land, Seed  (Acts 3:25-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; Joseph sold into Egypt; famine; family (70) moved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– Exod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 have passed; Pharaoh arose who did not know Joseph; mad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—plagues; #10 death of firstborn; cross Red Sea; travel to Mt Sinai; m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, Law, Priesthood, Tabernacle;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nation promise fulfil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spies sent from Kadesh-Bar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 14:33 sentenced to wande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16 – Korah, Dathan, and Abiram re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0 – Miriam dies; sin of Moses “must we bring water”; Edom refuses passage; Aaron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1 – bronze serpent  (John 3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2 – Balaam and Ba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6 – second census; all over 20 years old had died except Joshua and Cal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7 – Joshua app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uteronomy 34 –  Moses dies; ready to enter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1:39:57Z</dcterms:created>
  <dc:creator>Wayne Holt</dc:creator>
  <dc:description/>
  <dc:language>en-US</dc:language>
  <cp:lastModifiedBy>Wayne Holt</cp:lastModifiedBy>
  <dcterms:modified xsi:type="dcterms:W3CDTF">2003-08-09T21:32:15Z</dcterms:modified>
  <cp:revision>7</cp:revision>
  <dc:subject/>
  <dc:title>1 – Before the Flood</dc:title>
</cp:coreProperties>
</file>