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691B-9EB3-48F3-A3A8-697320A1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F494-F076-4CFE-9E48-4AC8FCA3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2806-7593-4E6B-94D4-0D5D8067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C56B-5A0A-49B8-8F03-45E40FA6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A4DA-A742-49D2-96E4-F89D48A3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05E8-25D7-46C6-AA6B-F5483D96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1525-2644-484E-89EC-DDC19EF3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764E-E9EC-4F2A-A254-0AEF6A8D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C1D6-6AD3-42B7-BF1E-AE8F2FBD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2464-9364-4431-9D37-9A08E733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2CFA-3BAA-45A0-A275-4ADDE9EC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8B14-34FD-44F3-A37B-F5BCC908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CB0C-E612-475F-A0F6-86CED575BA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Long, O Lord?”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ohn’s Epistl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13 ,Lesson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John 1:1-1 John 2: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90-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ellowship with Go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 is the propitiation for our s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 o Know Him Is To Do His Commandment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ruly know God we must devote our lives to follow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claim to know him but you do not follow his Word, the truth is not in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abide by the word is to be like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not serve God and hate your br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o Know Him Is To Do His Commandment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ate your brother is to put a space between you and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hates his brother is in dark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is World Is Not Our Hom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love th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not love the world and God the F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things that are of the world; the lust of the flesh, the lust of the eyes, and the pride of life are not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ld and the things in it will perish , but if you stay with God you will abide for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Background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A.D. 70-100 , there is very little inspired history kn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only know for sure what happened to one of the apostles, James the brother of Joh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ought that Jude (the Bishop of Edessa and commonly called Thaddeus , was stabbed by a 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lso believed that Andrew was bound to a cr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, that Philip was sto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rsecution that faced the Christian of this time period were no longer from Jews but mainly from the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tarted with the reign of N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ians were burned , tortured , beaten , crucified , and impriso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ould intensify during the reign of some rulers and then slack off in the time of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quakes,famines,plauges,and any other disruption was blamed on the Christians particularly because they would not worship ancient g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acombs were underground burial places particularly found in Rome that Christians used mainly to bury their dead , but also to hide and often wo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ristians likely worshipped underground in times when persecution was particularly sev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otal length of the catacombs is 590 m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, during this time periods there were many false doctrines aside from the Judaizing teachers that had always been a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of the most prominent being Gnostic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nosticis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imed that there was a knowledge far above that of The Bible and what a common man could k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, that one could lead a sinless life and that even if one did sin it would not spoil his inner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taught that Jesus was a normal man when he was born and when he died , but during his life he became de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llowship With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Know Him Is To Do His Command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rld Is Not Our Ho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Wor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was from the begi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as been given to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we are bringing the word to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ay we can all share the gift of fellowshi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ellowship With Go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is the light of th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ry to live without God in our lives is to deceive oursel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if we walk with him we have fellowship with all Christ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have sin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, if we confess our sins he will forgive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20:49:06Z</dcterms:created>
  <dc:creator>Tab L. Vines</dc:creator>
  <dc:description/>
  <dc:language>en-US</dc:language>
  <cp:lastModifiedBy>Tab L. Vines</cp:lastModifiedBy>
  <dcterms:modified xsi:type="dcterms:W3CDTF">2007-05-30T23:33:23Z</dcterms:modified>
  <cp:revision>4</cp:revision>
  <dc:subject/>
  <dc:title>“How Long, O Lord?”  John’s Epistles</dc:title>
</cp:coreProperties>
</file>