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7C2A-673D-4A08-A929-3AEEA6F6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186-6BF2-463A-AFF7-229570C5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F51E-B8AD-48F7-A50C-63D5BCA9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CD80-ED08-48B3-8C3C-6C7B5933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978C-1E72-4027-ADA1-30113552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F687-7BB4-4CEB-938A-61E715D7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4DF7-EEF0-4AA4-8B92-49E26AB4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1975-17D1-4819-A829-1E9ADE90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41EA-F2E2-426D-93A3-B9396374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1186-671B-4D94-88F8-FA871C77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D490-C3A5-493A-8B4A-D4C5C85B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5B1C-8E35-46F4-B484-660D0D7F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7397-1A4B-40B5-95F8-DFA87226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7FC9-460B-417F-A3A5-BA3927A8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57D0-2BCE-42AD-9CB2-61F03B3E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2AF9-792E-4CE6-AA27-8F279E62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B29C-D86E-49F6-B94C-704580C4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0C7-109A-4B72-8C48-81F00CF3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FE2-8D31-4454-8073-B266B41E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0154-147B-4FAA-8010-FB922E95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7AC3-131E-4709-98A3-63949BE5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693-076A-4133-8EFF-518F3135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25D-65D6-42D9-8882-9CE3C0AE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10A3-F2BF-446A-8FF1-29476184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7EA1-8F06-471F-9E6E-CB56A0B997E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D09B-A880-46A4-A3F1-B1E2A3CA72C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Epistle of Ju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sson 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s 85-8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ckground of Ju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y similar to     II Peter 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writing was before Jud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mes and Jesus’ broth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hing else is known about Ju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critics say Jude didn’t really write Ju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ude was written to correct wrong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erses 1-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ude- bondservant of Jesus Chri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ter written to those who are called and sanctified by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d for the fai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ertain members of the church are perverting the gosp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 the unbelieving Israeli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erses 6-1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 the angels who left their proper place and were banished to He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 Sodom and Gomorrah, who gave themselves up to sins of the fles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ch people defile the flesh , reject authority , and speak evil of dignita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en the archangel Michael left judgement to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erses 6-1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people are brutes and speak evil of things they do not understan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erses 11-1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e to these who have gone the way of Ca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people are hindrances to y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och prophesied about these people being brought to judg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erses 16-2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people are grumblers and come to stir up trouble to their own advanta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, you were told these people would co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cause divis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ild yourself up against them on faith and with pray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erses 21-2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eep yourselves in the love of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to him for mer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ve the glory to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3:04:41Z</dcterms:created>
  <dc:creator>Jarrod S. Vines</dc:creator>
  <dc:description/>
  <dc:language>en-US</dc:language>
  <cp:lastModifiedBy>Tab L. Vines</cp:lastModifiedBy>
  <dcterms:modified xsi:type="dcterms:W3CDTF">2007-05-27T13:20:54Z</dcterms:modified>
  <cp:revision>5</cp:revision>
  <dc:subject/>
  <dc:title>The Epistle of Jude</dc:title>
</cp:coreProperties>
</file>